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C314A-346B-4321-A0B0-88DB52C817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8D85F-5A2C-4D50-BA12-8C03981B26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3D730-67DE-4A3D-8408-D04150EB91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BD3863-3729-4B34-BF87-E39B2CC38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3BD00D-0115-43A9-A167-72A4001B0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821041-2D18-4779-82F3-F29F6C0AB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BF3558-6CA0-4D6C-9B10-9F4C663B7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54F7B-5A70-42B1-8E74-C5E5480A0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F855F-FF32-46C6-8A9F-FEBE56458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5039E-443C-4485-BF81-CDB7100B1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E3A64-0656-4453-89AD-5E7A69180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F45AC-DBB5-414A-81B7-3B9C93ADA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D1521-858E-46CC-8102-D8E6A33B5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FACB9-3EBA-4515-BBB4-8D9BC7989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71753F-36D1-4066-A078-324A40008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44204-6584-4307-8F3E-FFDCA2405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BD45D-9CED-4288-9B47-C2BEED921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E4CEF-C8FD-4B32-B47D-3AEEF85D7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DE037-E4D5-4944-BCC0-9511A1A87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3E542-1333-40DE-AEE6-BBDBD2466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542CF2-DD87-4E4B-BB15-9987CE9E3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58C780-769D-4993-863B-0E38023D7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16B926-B2A2-4101-B7DE-8093EF56A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3B1C27-674E-4991-B7F6-08BE8F9B9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5C5F54-C2A3-42E4-8F12-21F0D9926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21683A-FB25-4371-A699-5B9DB144E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D2061F-35BD-4168-A4BC-0172589D7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97C23-8CF1-4D3A-BC63-0FA83B66E0B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7F5BE-E881-483F-A319-EB1B491918FB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457200" y="624852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sonnel – Module 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3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6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E20B5-3DAB-45E7-A2A4-DC79082D1315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D187C-B411-4906-A815-E23B950C0BF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624852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sonnel – Module 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Sample Orientation Check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Document"/>
          <p:cNvSpPr/>
          <p:nvPr/>
        </p:nvSpPr>
        <p:spPr>
          <a:xfrm>
            <a:off x="1143000" y="1219320"/>
            <a:ext cx="6781680" cy="5333760"/>
          </a:xfrm>
          <a:prstGeom prst="pie">
            <a:avLst/>
          </a:prstGeom>
          <a:solidFill>
            <a:srgbClr val="ffffd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y t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roductions to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y technical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sonnel key poli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y Quality Management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b 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371600" y="1447920"/>
            <a:ext cx="6629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295280" y="1371600"/>
            <a:ext cx="647712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AME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T DA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SITION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11BEC-364B-43AA-810E-80153C6309A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838080" y="1219320"/>
            <a:ext cx="7925040" cy="3934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Verdana"/>
              </a:rPr>
              <a:t>Performance appraisal</a:t>
            </a:r>
            <a:br>
              <a:rPr sz="3600"/>
            </a:br>
            <a:r>
              <a:rPr b="1" i="1" lang="en-US" sz="3600" spc="-1" strike="noStrike">
                <a:solidFill>
                  <a:srgbClr val="000099"/>
                </a:solidFill>
                <a:latin typeface="Verdana"/>
              </a:rPr>
              <a:t> may highlight more opportunities for improvement </a:t>
            </a:r>
            <a:br>
              <a:rPr sz="3600"/>
            </a:br>
            <a:r>
              <a:rPr b="1" i="1" lang="en-US" sz="3600" spc="-1" strike="noStrike">
                <a:solidFill>
                  <a:srgbClr val="000099"/>
                </a:solidFill>
                <a:latin typeface="Verdana"/>
              </a:rPr>
              <a:t>for the laboratory than for the employe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1239840" cy="1981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AA3CCB-0D15-4010-ACB0-A14EB0AEB8A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Job Qualifications and Descri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520" y="1219320"/>
            <a:ext cx="830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boratory Management shall have job description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at define qualifications and duties for all personnel.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O 15189: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90720" y="2819520"/>
            <a:ext cx="3809880" cy="335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edu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certific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degr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prior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prior experi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a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029200" y="2819520"/>
            <a:ext cx="3657600" cy="335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pecify lines of autho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pecify responsibilit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ll ro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ll du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ll responsi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porting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90720" y="2438280"/>
            <a:ext cx="3809880" cy="381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Qualif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29200" y="2438280"/>
            <a:ext cx="3657600" cy="381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Job</a:t>
            </a: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Descri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864453-0241-4286-B2FC-13BD2FF471C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Competency Assessment Checklist 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(to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57200" y="1981080"/>
          <a:ext cx="8229600" cy="4017960"/>
        </p:xfrm>
        <a:graphic>
          <a:graphicData uri="http://schemas.openxmlformats.org/drawingml/2006/table">
            <a:tbl>
              <a:tblPr/>
              <a:tblGrid>
                <a:gridCol w="2743200"/>
                <a:gridCol w="914400"/>
                <a:gridCol w="457200"/>
                <a:gridCol w="457200"/>
                <a:gridCol w="533520"/>
                <a:gridCol w="3124080"/>
              </a:tblGrid>
              <a:tr h="3528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chnologist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chnologist Tit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dure for Evalu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tion D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dure it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d procedure manu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n manual read lo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quipment availabl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 area ne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gent prepa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orm task accurate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orm task time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DC379D-3E0D-40F9-BA57-0A9D8C3F6F9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Competency Assessment Checklist</a:t>
            </a: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botto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57200" y="1752480"/>
          <a:ext cx="8229600" cy="4435560"/>
        </p:xfrm>
        <a:graphic>
          <a:graphicData uri="http://schemas.openxmlformats.org/drawingml/2006/table">
            <a:tbl>
              <a:tblPr/>
              <a:tblGrid>
                <a:gridCol w="2743200"/>
                <a:gridCol w="914400"/>
                <a:gridCol w="914400"/>
                <a:gridCol w="533520"/>
                <a:gridCol w="3124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70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ment summa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798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training required to address deficiencies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196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ommended activities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assessment to occur in _____ day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04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s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71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ned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74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ed Technologi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635CE0-3AE2-4FFE-B3EB-3F0ED7C027B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Verdana"/>
              </a:rPr>
              <a:t>Competency Assess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1523880"/>
            <a:ext cx="8610480" cy="4648320"/>
          </a:xfrm>
          <a:prstGeom prst="flowChartDocument">
            <a:avLst/>
          </a:prstGeom>
          <a:solidFill>
            <a:srgbClr val="ffffd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228600" y="1600200"/>
          <a:ext cx="8610480" cy="3916440"/>
        </p:xfrm>
        <a:graphic>
          <a:graphicData uri="http://schemas.openxmlformats.org/drawingml/2006/table">
            <a:tbl>
              <a:tblPr/>
              <a:tblGrid>
                <a:gridCol w="1143000"/>
                <a:gridCol w="914400"/>
                <a:gridCol w="1371600"/>
                <a:gridCol w="1371600"/>
                <a:gridCol w="1143000"/>
                <a:gridCol w="2666880"/>
              </a:tblGrid>
              <a:tr h="82800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etency  Assessment Lo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n Hospital – Microbiology Laborato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ploy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s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rais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/02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m St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, M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assess in 1 y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/02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rby-Bau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Al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ss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cement of disks too crowded;  Reassess 14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/03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rby-Bauer(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Al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assess in 1 y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/08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ad BC bott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, M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/10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tocentrifu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beya, Al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assess in 1 y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/04/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ll autocla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beya, Al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5/08/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ysis data ent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, M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ss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entry errors.  Read manual and reassess 10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2D7980-B36F-4F25-877C-0AF75B0CED6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80880" y="1523880"/>
            <a:ext cx="3962520" cy="43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ork rel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ask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nked to competenc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viewing operator manu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viewing manual up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nufacturers’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quipment training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" y="685800"/>
            <a:ext cx="4038480" cy="64224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Training</a:t>
            </a:r>
            <a:br>
              <a:rPr sz="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0" y="1752480"/>
            <a:ext cx="4267080" cy="43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ork rel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y no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be task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y no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be linked to competency 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fer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orksho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ournal club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ournals and literature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648320" y="609480"/>
            <a:ext cx="4267080" cy="520560"/>
          </a:xfrm>
          <a:prstGeom prst="rect">
            <a:avLst/>
          </a:prstGeom>
          <a:solidFill>
            <a:srgbClr val="00007d"/>
          </a:solidFill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Continuing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934320" y="3733920"/>
            <a:ext cx="1782720" cy="14842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2666880" y="2971800"/>
            <a:ext cx="1109880" cy="12952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2819520" y="3505320"/>
            <a:ext cx="647640" cy="49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Verdana"/>
              </a:rPr>
              <a:t>Manual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95A351-D775-4AAB-B606-5481912C6BC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F5033-0E2B-499F-8817-CA1772A3900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Verdana"/>
              </a:rPr>
              <a:t>Training Resour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1295280"/>
            <a:ext cx="35812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Perso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quality assurance committ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nic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urs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athologis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fection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pidemiolog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800600" y="1295280"/>
            <a:ext cx="411480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xter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sesso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nufactur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cience societ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orld Health Orga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enters for Disease Contro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nd Preven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ndards developmen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ganiz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FN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514600" y="4191120"/>
            <a:ext cx="2130480" cy="2361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CD3FC6-46C8-4011-A5DD-A0D43767541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Verdana"/>
              </a:rPr>
              <a:t>Causes of Poor Perform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09480" y="1295280"/>
            <a:ext cx="37339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erson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ersonal heal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ersonal distra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isundersta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iscommun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44D5CF-0110-40DB-BE73-C5C1C0E4242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Verdana"/>
              </a:rPr>
              <a:t>Causes of Poor Perform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" y="1143000"/>
            <a:ext cx="74674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ystem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orksite distr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cessive worklo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or ori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ufficient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bsent competency 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e complex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bsent or invalid S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mbiguous S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4F4BD1-714E-422C-B608-D3987B95D5B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Robin Barteluk</cp:lastModifiedBy>
  <dcterms:modified xsi:type="dcterms:W3CDTF">2008-11-23T23:58:18Z</dcterms:modified>
  <cp:revision>197</cp:revision>
  <dc:subject/>
  <dc:title>Slide 1</dc:title>
</cp:coreProperties>
</file>